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0B9-28F2-4DC3-BB4B-5877ED2B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CA3-CA45-4B56-A189-1143F5AD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92FC2-25AC-4BCA-96FE-1B123DE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15D01-C7A3-4BFA-9325-66C903D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6046-2B43-41DB-8BD1-AD46821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8B93-40CD-44B7-9C8B-2E548C1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74B1C-9AFB-419F-AD5F-2DBC1DD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98E02-AD44-48CB-8661-397EB1C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4C7B8-E052-40E8-9ACA-D742EAA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2E5D5-EAEE-405C-BD78-4AB626F8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A86A1-AC30-49A4-991A-FAA7D85A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68F4B-EE7D-4057-B6BB-07C62E56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399-AEF2-4CA4-B489-5EB7F1F1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F9C2B-A509-44E6-8578-132DB326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4AC6-CDA8-475E-918F-0FD25BF3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DA3CB-2344-47A6-9379-ABF4D0AE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70843-F2DB-476A-9E24-820D6337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8E3F4-E5E7-4A07-B799-2995E16A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B3B4E-B71C-4C0D-BC40-D2FAB8B4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4EF9B-4161-4B14-93BA-4459620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A93F7-02BB-41CE-9FA9-8DF39AF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B846A-859A-464A-93DE-6E757F1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ED5E-E6B4-48C8-8AD6-D0844154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A77-B38A-4003-84F1-D15A394E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195F6-93D3-4D2B-86FE-56DBDCEC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85591-84FD-443A-A27B-5D980E60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458E-48AF-46B6-ACB2-F54BE5E2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8FCB9-C209-44FD-8E71-EB54A6D2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8DE4-5066-4EB8-896F-A5C772D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D7BE3-39A7-4EED-A6C0-11E00B6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D523E-E8BC-4BC2-975F-6561101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E5EE6-610F-4F39-A2BA-E066856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1978-6571-4106-8934-056A448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60ED-2EBE-4C4D-887D-414F959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EDBA-87E7-443D-AB14-2B08AA22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78C0-1EC4-434B-8C5D-9811014D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319E-948C-4B1B-BF9B-25C7B2B3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9B81D-4E27-485E-8C78-EC2D7C5A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AAB2C-AF3E-4673-B0A3-D8E61C12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FFA1-C8D2-4107-8B11-86AA906C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F77F1-4030-4A07-8956-37BC93BD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F2D8E-3734-4CAD-8A67-2C31532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94CDB-75BC-4C1F-97FB-9E644DB3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B4291-4FA2-424C-940B-9120444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8C772-9F43-44A0-B1A6-DD6CDDA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2983-CF89-4F73-B2DF-A274775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B0A96-4D91-4C71-B84A-9251346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9E2BE-2C3B-4154-A5DF-988B0F1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EE1CA-4AB6-4FD8-BEB6-9C2E4DE0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A7278-0D6E-43BE-876C-1DFEA60C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C62FE-263C-4921-9F0D-0B94F4E8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EF6DA-92B3-4FA9-A5BC-A91D5785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85E67-727C-4588-B96E-7365703A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94362-C8DA-4BDE-B3A8-05797E1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4976C-B480-4A4B-AA3B-034F21B4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0DDC3-7587-49B5-BA7D-54BC050C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FF9D-A41E-4C82-BD2A-0D438727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C8DB3-582A-4357-A476-06C77F7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119FF-8BE4-4F8F-A78C-E4B21B3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24608-322B-43FE-9ED7-BB1256E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1CE25-8094-44AB-AD84-7511D0D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BDD9E-3AD7-429F-8E15-BDAF67B2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1E9B1-37CA-4A1F-8619-F3392539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6272C-CED6-4464-A086-D4890CAF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6B6F6-9089-41ED-9A79-1A5F1C10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75A66-528E-4860-B3FD-7CF0F41E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222CD-5653-4430-9D0B-F211B0C2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11B-D1F9-47A4-A120-24B6653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05DF5-E664-4E4B-9AAC-181D89F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058C3-365E-4EF3-9504-41D27BC5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A0DDC-21CF-4864-9A0F-DF2946AD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8A8E8-1F21-442D-9152-948694D8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F82C8-8C77-49A2-B520-A5AAA58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3CB41-2F2C-488C-A15C-AABB162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B518C-12CC-41E0-A34F-609BD6C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276E2-BCB7-4A67-824E-A8678A1F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F87ED-A8FA-462B-B11C-D496C3B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0244F-37C3-4D5F-BE49-B5888B31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3B00-AEE3-4093-8998-45D32C2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254E8-74C6-4E7B-A42C-E908BFC2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79F67-DB21-49BE-9E80-8A593D4B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A3BD5-513A-4CEA-8D6A-9F9265D4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6F5DA-4CE7-4BCB-8803-13BC6E1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1B912-EEE5-4B0B-9BBF-A505B30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C79FD-3E18-4D51-A405-40C8A22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A6810-11F6-4CE6-B001-F1F8991C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46FE6-DD8A-4A44-AE30-14FF833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54016-1C54-4034-8193-E1999EC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EB1E9-AC2C-4AB1-8F13-3C322249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6580-0E22-4993-A8C2-8ADFA4E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8EF51-7CE4-4676-AE1D-6F40472A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DE943-6342-4082-9796-279DE586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C566E-3B9F-413C-B50D-9B818DC3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DD3F8-B4A3-4352-89FB-84E141DA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3CD21-7C97-42FB-84FB-74B0BEFC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33EB7-01A1-42FD-B60C-93074A3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D10B39-BEC2-4040-8179-CDE4CC7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95948-0B1F-4BCB-BDD4-451EE05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44ED6-895F-45D8-B2C4-439B85D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574E0-67C3-4A8E-AA2E-89B5D61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4EE-26DF-449E-9BF5-BE72C2D1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178E7-1B5C-4F73-AF57-4B8EC7E8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B0CB5-E7F4-497E-B639-02BE7C47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FBF6C-7A5A-4E90-903A-D90F169B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5AB95-4F11-4BB7-96C3-2FFEDA01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A7F8A-DECB-43DF-AD06-5D3D128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BE7F6-AC50-43DE-89D4-9AED4A19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1BF7F-E030-4EE5-A0FF-DFC44AA5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6144A-E4D8-4A20-94A9-DC3B99F5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3A6F1-88A1-450B-9426-D9E73124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DBAE0-A15F-4BAF-B248-C1893DF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B7F-2A0A-4848-86D0-CC676577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7957-6C66-4F26-B80B-339DC91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EA1DC-77B8-48EA-9A56-DDE9D77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1B416-0A7C-4783-8027-9122D6C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6C90F-A502-4257-B1AD-8BCD236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9E286-356E-444B-8B98-8FAEED12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9C171-012F-474E-ABCA-76876BB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08C8A-A671-4EC3-AF41-92A226F2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A10AA-8278-4FC8-A6A3-907C3330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7B88E-D92F-4B70-8A78-055FF584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0BC1C-AAA4-4F97-A7E7-78D73D4A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6A5F5-23DF-4BED-9B74-FCA466F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FC8-39DB-49DD-8CB0-D84200A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02E4E-43D2-4F4A-854D-45C79CE3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2C994-D773-4669-B620-6D1DCA9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E45CA-D7A7-40D6-9F60-B02DF4F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49207-D97E-477A-945B-2BB6E6B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FDBEF-2AD2-494C-90A4-9201CF6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E271B-187D-4F75-9C0B-06B54365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AA89F-E153-4125-A2E3-4C5AB2A6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C60E-1161-4CC0-A96B-EB8D1388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748-3EB0-4907-B617-DE4E97D1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CB0C-1DA4-4545-9A10-3119B8D2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6BFA-C97C-452A-A199-02492DB3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AE0A-E699-40CD-A6B3-02A85AD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A9D3-1839-42E9-9EBC-849630D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2091-03C8-4F63-B9DB-B995A4B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7E70-BA56-4778-B86D-3EBA23D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023-459F-4281-93B8-494EAA8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AD47-5262-40A5-AC4C-68CDA437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1B1A-4757-402B-A97B-AC6C503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FDF4-9A84-4AD8-917F-B65F1C6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F254-7AAF-4129-8482-A3B48130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DC13-89D3-4DB3-B253-CF5FB03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ED78-CEA9-4DA4-98D6-A8790E2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FC60-212A-474D-B8A4-08C30CE2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A6D7-E1F5-4AD0-B71A-6DB3F364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A41E-BB73-45AE-92BF-9A849560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6366-57C0-4BED-9033-D75897A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F4C-537E-4144-B777-D6F0626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A1B1-9BA5-4DAA-BE33-E1720BE3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0844-D371-469E-BE74-2D49FED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D602-4743-4BD4-A20E-BE08C425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672B-2E41-4539-B402-5F33CAB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51B0-3702-484A-90BB-8092E8A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8AE8-E33C-4154-BA74-1D61FB2D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E451B-A64A-4AB9-9EF6-07CA223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5220-E6AE-471A-85FF-4A300409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142F-46B9-48BA-B66F-D285D819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C23D-3465-4C3B-8F18-7715F2F6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CD3-49D5-475C-8CE5-0CFAEF94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9430-44A5-42B3-B848-51D1D524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ED99-716A-4FCC-BEE4-96D8DE4D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F3BB-D262-4730-B3EC-0E90C7A3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97A0-546B-4949-B887-7AF673B9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15A8-F072-46F9-9524-47A53AC5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A3555-CBC1-457E-A725-24BB037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C3E2-64A6-4FC9-97BC-87977AA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82B96-6C9F-4A59-9F85-9235EE9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3E2B-B052-47AF-85DD-C6C6055E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F903-A5CE-4234-B49B-2420269F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4C5-76B1-4C26-A523-8DF3AA8C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051E-337A-4A3A-AAE8-2903DB34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7F9D-3D61-4209-BC8D-25D2819E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EE5B-332A-4D47-A2A9-184D041B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D5176-7335-492C-B4C2-F93F9F6B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0564-1D17-4CCA-9C65-3F70586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32170-70BD-4E9D-A94D-485D8B28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EDE4-E2CD-41E0-86AE-42D30101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87FC-FD95-44B9-89C8-856D0B9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E460-29AE-4E23-A8B2-38E1B0AB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9FED-E2D3-4F4A-AB7F-15A66A8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4DD-34EF-4830-BC2F-FDC72A9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0BA64-956E-4E03-A4BD-D75F02FA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A45D1-D46C-4CA6-8716-71BAB619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DA77-AADF-4D82-867D-445C71E5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EC074-8ABC-48A9-A24F-BD4770FC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32F81-048F-4515-8AAA-A988376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0996-EC1B-4293-B863-5F9AE347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776C-8B93-46A2-9857-B6ED233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C2B1-DA06-4C26-B370-0FE302A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0679-14EE-447F-A9B0-2141E18A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6660-9315-45E5-90CF-73AB5578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A7E-715B-4508-9CF1-9CFA04C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C04B-5AEB-4C76-980B-9305CDD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020A-E9DF-4A8F-8718-78EC589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B676-F6C7-41BA-AC1E-EA9E0D3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B8A5-4284-4DB7-97CB-C3D169C4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8FADC-B5CB-4500-A316-A54F7D40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1522-7B3D-4FC9-B517-0AD1DEDC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2D9C1-9506-4BC2-AC77-DB5CFC2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1B1B-2552-4000-9416-368526D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18D79-827B-4E6B-8B72-B569C2A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E14A-9140-4742-BFC0-75DE6AC8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9AC-46F5-4FE2-9E61-419ABF0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AE82-2366-484C-BCC8-CBF7D30B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1C05-AFF6-46CA-9415-D231482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09DE-91F5-44DD-9CD8-BCB5FD2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80D95-81A2-418D-A87D-F374C76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FC9FA-B42C-44DF-B27D-F0946A53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49DD-FB90-4768-A35C-98739D42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35E72-669C-4581-9F16-2DAEA2A6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CC3BB-CF28-405F-B58E-51F3721F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749FF-3DC9-48F7-ADD2-CF76565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E040E-88FC-4EDE-B36B-5DCBD5BF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27F72-B777-49A6-B01B-BCE49A903C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36BA2-82B3-4A8A-A145-C46F1A107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9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9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C4621-D694-458D-ACD1-A3BF968F4F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31A98-2ABE-45A0-97F2-DD0F83CA4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440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8A1EF-560A-41B5-8965-144B54A9C0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2396D-B5C5-4B19-A398-D7AE62C3D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485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488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9BE77-7B95-41E6-A061-30536CC2AC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3D209-ADF5-488C-AB94-EDB123B5C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532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1B291-F05D-44DB-B28A-F9E879BC0C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AB302-CC07-4094-ADEE-4E7881ADF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577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580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7AA60-4B74-4554-821C-8AB6879476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76DB0-F547-4398-80DC-7E452C958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624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BC4E5-9E06-43A2-AD34-07FDA3FF7A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658A8-CA12-4915-B9CF-5A3E90AB7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669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672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DA9A8-5D19-43BB-BDFE-65721CC169E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8C1B7-CDCA-4D80-939A-B7F2992C4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Date Placeholder 4"/>
          <p:cNvSpPr/>
          <p:nvPr/>
        </p:nvSpPr>
        <p:spPr>
          <a:xfrm>
            <a:off x="95580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72F93-6327-4C62-B34C-6A68A67AC1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6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8CDD7-8687-46C5-B861-C3AE868B3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718" name="Picture 9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Box 11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DCCE5-591B-433F-B267-AD529DAB2D2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EB62-D1AA-426C-90C8-F10EB8518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763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766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12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anual for Healthcare Professiona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: 1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Calibri"/>
                </a:rPr>
                <a:t>st</a:t>
              </a: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 Edi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E63BF-1F4A-4F2B-BC8B-A368FEC2B0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95243-A5FE-4422-A362-2EF58218E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105F-E8FF-4D7C-8C95-A0C5145A04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6B8DE-EE47-4F20-99BD-C45B3F2E0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7411F-8222-454F-AA60-EBC3140D719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FCF53-C13A-4C13-935B-827AE1900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639280" y="6486480"/>
            <a:ext cx="390600" cy="371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2B78E-220D-40A2-BFC9-C59739F8E3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F4611-F323-40DD-98CC-060B4BE83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16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ounded Rectangle 9"/>
          <p:cNvSpPr/>
          <p:nvPr/>
        </p:nvSpPr>
        <p:spPr>
          <a:xfrm>
            <a:off x="219240" y="219240"/>
            <a:ext cx="8705520" cy="62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C7F19-EA30-4A71-93DD-62E7C31414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CDE3D-93CD-4288-A892-F5894DDD7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3614760" y="6411960"/>
            <a:ext cx="5527800" cy="459000"/>
            <a:chOff x="3614760" y="6411960"/>
            <a:chExt cx="5527800" cy="459000"/>
          </a:xfrm>
        </p:grpSpPr>
        <p:pic>
          <p:nvPicPr>
            <p:cNvPr id="211" name="Picture 7" descr=""/>
            <p:cNvPicPr/>
            <p:nvPr/>
          </p:nvPicPr>
          <p:blipFill>
            <a:blip r:embed="rId2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8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4205520" y="6472440"/>
              <a:ext cx="490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201320" y="6465960"/>
            <a:ext cx="108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442CA-005E-4FB5-A5C9-5A681DCE20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28920" y="6465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3ED33-8850-4025-8E79-B4EF476A8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256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ounded Rectangle 9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55FC9-F385-423E-AA3B-D14BFAE551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0936C-B9C9-4F0E-BE00-662A3D990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4205160" y="6472080"/>
            <a:ext cx="4900680" cy="398520"/>
            <a:chOff x="4205160" y="6472080"/>
            <a:chExt cx="4900680" cy="398520"/>
          </a:xfrm>
        </p:grpSpPr>
        <p:pic>
          <p:nvPicPr>
            <p:cNvPr id="301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120"/>
              <a:ext cx="3906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8"/>
            <p:cNvSpPr/>
            <p:nvPr/>
          </p:nvSpPr>
          <p:spPr>
            <a:xfrm>
              <a:off x="4205160" y="6472080"/>
              <a:ext cx="4900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3614760" y="6411960"/>
            <a:ext cx="5527800" cy="446040"/>
            <a:chOff x="3614760" y="6411960"/>
            <a:chExt cx="5527800" cy="446040"/>
          </a:xfrm>
        </p:grpSpPr>
        <p:pic>
          <p:nvPicPr>
            <p:cNvPr id="304" name="Picture 10" descr=""/>
            <p:cNvPicPr/>
            <p:nvPr/>
          </p:nvPicPr>
          <p:blipFill>
            <a:blip r:embed="rId3"/>
            <a:stretch/>
          </p:blipFill>
          <p:spPr>
            <a:xfrm>
              <a:off x="8639280" y="6486840"/>
              <a:ext cx="3909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3614760" y="6411960"/>
              <a:ext cx="5527800" cy="54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C4B8F-8D08-4EFC-B2A0-A16AD723ABD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04218-C6B7-487D-9A6A-0EC9B9BCF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6"/>
          <p:cNvGrpSpPr/>
          <p:nvPr/>
        </p:nvGrpSpPr>
        <p:grpSpPr>
          <a:xfrm>
            <a:off x="219240" y="219240"/>
            <a:ext cx="8886600" cy="6651720"/>
            <a:chOff x="219240" y="219240"/>
            <a:chExt cx="8886600" cy="6651720"/>
          </a:xfrm>
        </p:grpSpPr>
        <p:pic>
          <p:nvPicPr>
            <p:cNvPr id="348" name="Picture 7" descr=""/>
            <p:cNvPicPr/>
            <p:nvPr/>
          </p:nvPicPr>
          <p:blipFill>
            <a:blip r:embed="rId2"/>
            <a:stretch/>
          </p:blipFill>
          <p:spPr>
            <a:xfrm>
              <a:off x="8638200" y="6486840"/>
              <a:ext cx="3906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ounded Rectangle 8"/>
            <p:cNvSpPr/>
            <p:nvPr/>
          </p:nvSpPr>
          <p:spPr>
            <a:xfrm>
              <a:off x="219240" y="219240"/>
              <a:ext cx="8706240" cy="6253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4205880" y="6472440"/>
              <a:ext cx="489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6600"/>
                  </a:solidFill>
                  <a:latin typeface="Calibri"/>
                </a:rPr>
                <a:t>Training Module for Healthcare Provid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Calibri"/>
                </a:rPr>
                <a:t>CPG Management of Type 1 Diabetes Mellitus In Children &amp; Adolesc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955440" y="6492960"/>
            <a:ext cx="10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60523-966D-4F1B-A5F2-056A6F98990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2114640" y="6492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4104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A7ABE-569B-4FF5-9D10-DE4D4D72A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3880" y="993600"/>
            <a:ext cx="78868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Training Module CPG T1DM -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Case Discussion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854440" y="3654000"/>
            <a:ext cx="5656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Dr. Cheah Yee Kea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ian, Hospital Tuanku Ja’afar, 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Dr. Zahidah Mohd. Kasi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Paediatrician, Hospital Kajang, Selang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Dr. Fuziah Md. Za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SimSun"/>
              </a:rPr>
              <a:t>Consultant Paediatric Endocrinologist, Hospital Putrajaya, Putrajay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57080" y="2992320"/>
            <a:ext cx="2071800" cy="3195720"/>
          </a:xfrm>
          <a:prstGeom prst="rect">
            <a:avLst/>
          </a:prstGeom>
          <a:ln w="0">
            <a:noFill/>
          </a:ln>
        </p:spPr>
      </p:pic>
      <p:sp>
        <p:nvSpPr>
          <p:cNvPr id="813" name="Slide Number Placeholder 4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7F237-FD50-49C8-A0D4-95292BEFB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460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28560" y="1920600"/>
            <a:ext cx="78868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Diagnostic criteria of D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lassic symptoms of diabetes (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thirst, polyuria, polydipsia,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current infection &amp; 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weight loss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) or hyperglycaemic crisis, with plasma glucose concentration </a:t>
            </a: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≥11.1 mmol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asting plasma glucose ≥7.0 mmol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2 hour post-load glucose ≥11.1 mmol/L in OGT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HbA1c &gt;6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1287F-41CA-4C48-ABC8-50F4B1F6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estigation resul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28560" y="2112480"/>
            <a:ext cx="78868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ndom blood glucose = 18 mmol/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bA1c = 10.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Blood ketone =  1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Venous blood g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H = 7.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icarbonate = 20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98013-4DE9-4084-B695-107DA061F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History &amp; Examin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28560" y="1879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history: No family history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: 22 kg, Height: 13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MI: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: 90/60 mmH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canthosis nig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5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type of diabetes does this patient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AA06F-95CF-4E02-BCA9-8B7B8FF9A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1"/>
          <a:stretch/>
        </p:blipFill>
        <p:spPr>
          <a:xfrm>
            <a:off x="517680" y="2189160"/>
            <a:ext cx="8175600" cy="3076560"/>
          </a:xfrm>
          <a:prstGeom prst="rect">
            <a:avLst/>
          </a:prstGeom>
          <a:ln w="0">
            <a:noFill/>
          </a:ln>
        </p:spPr>
      </p:pic>
      <p:sp>
        <p:nvSpPr>
          <p:cNvPr id="849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3D74B-7512-4159-A011-23468ACDB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28560" y="2112840"/>
            <a:ext cx="788688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would you confirm whether this patient has T1D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0CC36-5B31-4A23-B8F3-ED00AE875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28560" y="1879200"/>
            <a:ext cx="788688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utoantibodies testing (glutamic acid decarboxylase antibody, anti-islet antibody, insulin autoantibodies &amp; protein tyrosine phosphatase antibody) should be done to confirm the diagnosis of T1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itional support for the diagnosis of T1DM is low or undetectable C-peptid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787C4-D6FA-45D1-B661-2EEE1280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28560" y="2112480"/>
            <a:ext cx="78868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are other medical conditions co-exist with T1D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DED91-9283-478B-BBF7-C88510D57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392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28560" y="1584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utoimmune thyroid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ients with T1DM have higher prevalence of autoimmune diseases compared with patients without diabetes. The prevalence of high anti-thyroid peroxidase antibody (aTPO) &amp;/or anti-thyroglobulin antibody ranges between 4.5% &amp; 29.4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eliac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evalence of coeliac disease ranges from 1 to 10% in children with diabetes. However, coeliac disease prevalence is unknown in Malaysia &amp; therefore screening for the disease should be done in suspected ca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imary adrenal insuffici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has also been found in T1DM with a prevalence of 0.7%. Although the prevalence is low, clinicians should be aware of the symptoms &amp; signs of adrenal insufficiency in patients with T1DM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4F2A6-6A93-4B6B-9A47-8EEBC505F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314280" y="2184480"/>
            <a:ext cx="8529840" cy="2967120"/>
          </a:xfrm>
          <a:prstGeom prst="rect">
            <a:avLst/>
          </a:prstGeom>
          <a:ln w="0">
            <a:noFill/>
          </a:ln>
        </p:spPr>
      </p:pic>
      <p:sp>
        <p:nvSpPr>
          <p:cNvPr id="864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70D45-3977-420E-9B50-EC36FF43C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28560" y="2112480"/>
            <a:ext cx="78868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was referred to the paediatric/paediatric endocrine team for further management with appropriate insulin therap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8. What would be the treatment goals in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patien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3C68F-4DDF-41F8-806C-19D0BDFE5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474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28560" y="193500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10-year-old-boy presented to klinik kesihatan  with history of polydipsia, polyuria, bedwetting &amp; weight loss for the past 2 w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linically, patient was comfortable with normal hydration status &amp; vital sig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1. What are the possible diagnos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F852E-902C-4D80-A957-D3AD15CD7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79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28560" y="18396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chievement of the ideal BG level (near physiological glucose contro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 significant hypoglycaemia or recurrent DKA through SMBG &amp; optimal HbA1c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bsence of hypoglycaemia un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rmal growth &amp; pubertal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rmal psychosocial development &amp; adjustment in dealing with a chronic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evention of long-term diabetic com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B4981-62F2-4181-B6A8-B7F0F9B35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Answer 8. Target indicators for </a:t>
            </a:r>
            <a:br>
              <a:rPr sz="4000"/>
            </a:b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glycaemic control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608040" y="1690560"/>
            <a:ext cx="7958160" cy="4524480"/>
          </a:xfrm>
          <a:prstGeom prst="rect">
            <a:avLst/>
          </a:prstGeom>
          <a:ln w="0">
            <a:noFill/>
          </a:ln>
        </p:spPr>
      </p:pic>
      <p:sp>
        <p:nvSpPr>
          <p:cNvPr id="873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A5DDA-AA15-45F2-A467-667CFA399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266760"/>
            <a:ext cx="788688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Answer 8. Target indicators for </a:t>
            </a:r>
            <a:br>
              <a:rPr sz="4000"/>
            </a:br>
            <a:r>
              <a:rPr b="1" lang="en-MY" sz="4000" spc="-1" strike="noStrike">
                <a:solidFill>
                  <a:srgbClr val="ff0000"/>
                </a:solidFill>
                <a:latin typeface="Calibri"/>
              </a:rPr>
              <a:t>glycaemic control</a:t>
            </a:r>
            <a:r>
              <a:rPr b="1" lang="en-MY" sz="1800" spc="-1" strike="noStrike">
                <a:solidFill>
                  <a:srgbClr val="ff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604800" y="1379520"/>
            <a:ext cx="7962840" cy="11541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3" descr=""/>
          <p:cNvPicPr/>
          <p:nvPr/>
        </p:nvPicPr>
        <p:blipFill>
          <a:blip r:embed="rId2"/>
          <a:stretch/>
        </p:blipFill>
        <p:spPr>
          <a:xfrm>
            <a:off x="604800" y="2500200"/>
            <a:ext cx="7962840" cy="3981600"/>
          </a:xfrm>
          <a:prstGeom prst="rect">
            <a:avLst/>
          </a:prstGeom>
          <a:ln w="0">
            <a:noFill/>
          </a:ln>
        </p:spPr>
      </p:pic>
      <p:sp>
        <p:nvSpPr>
          <p:cNvPr id="877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B3B03-7276-4892-9A3C-ED6076CE9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266400"/>
            <a:ext cx="7886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ff0000"/>
                </a:solidFill>
                <a:latin typeface="Calibri"/>
              </a:rPr>
              <a:t>Answer 8. Hypoglycaemic awarenes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9" name="Picture 3" descr=""/>
          <p:cNvPicPr/>
          <p:nvPr/>
        </p:nvPicPr>
        <p:blipFill>
          <a:blip r:embed="rId1"/>
          <a:stretch/>
        </p:blipFill>
        <p:spPr>
          <a:xfrm>
            <a:off x="1868400" y="998640"/>
            <a:ext cx="5397480" cy="5216400"/>
          </a:xfrm>
          <a:prstGeom prst="rect">
            <a:avLst/>
          </a:prstGeom>
          <a:ln w="0">
            <a:noFill/>
          </a:ln>
        </p:spPr>
      </p:pic>
      <p:sp>
        <p:nvSpPr>
          <p:cNvPr id="880" name="Slide Number Placeholder 2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A54E4-1CCA-43BC-BF36-1A98313F5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9600" spc="-1" strike="noStrike">
                <a:solidFill>
                  <a:srgbClr val="3333ff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Slide Number Placeholder 1"/>
          <p:cNvSpPr/>
          <p:nvPr/>
        </p:nvSpPr>
        <p:spPr>
          <a:xfrm>
            <a:off x="41400" y="6478560"/>
            <a:ext cx="78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0D99C-877D-45B5-B453-E211CAC3A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415440"/>
            <a:ext cx="78868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8" name="Content Placeholder 2" descr=""/>
          <p:cNvPicPr/>
          <p:nvPr/>
        </p:nvPicPr>
        <p:blipFill>
          <a:blip r:embed="rId1"/>
          <a:stretch/>
        </p:blipFill>
        <p:spPr>
          <a:xfrm>
            <a:off x="212760" y="1206360"/>
            <a:ext cx="8632800" cy="4853160"/>
          </a:xfrm>
          <a:prstGeom prst="rect">
            <a:avLst/>
          </a:prstGeom>
          <a:ln w="0">
            <a:noFill/>
          </a:ln>
        </p:spPr>
      </p:pic>
      <p:sp>
        <p:nvSpPr>
          <p:cNvPr id="819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CED13-0168-41E6-B01C-79386B435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28560" y="2112480"/>
            <a:ext cx="78868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bedside test would you do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AAFB3-3293-42FA-9911-0BEA61C85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665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28560" y="2125800"/>
            <a:ext cx="7886880" cy="35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Capillary blood glucose (CB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Urine FEME (include glucose &amp; keton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463CB-8DAB-4116-B37F-B064A6F24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665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"/>
              </a:rPr>
              <a:t>Results of Investig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28560" y="2125440"/>
            <a:ext cx="788688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BG: 16 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rine test: glucose 2+ , ketone –ve, leucocyte –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Q3. What is the diagnosis &amp; your next plan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manage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8943B-F9E1-406B-BBCB-1A2DDE0F3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nswer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28560" y="2112840"/>
            <a:ext cx="7886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es mellitus with hyperosmolar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hospital for furth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13233-135C-4208-A916-5C4DCE510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6793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28560" y="2139840"/>
            <a:ext cx="788688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further test needed to confirm your diagno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B3541-B8F8-48C5-AA58-5CDF5A788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6519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ff0000"/>
                </a:solidFill>
                <a:latin typeface="Calibri"/>
              </a:rPr>
              <a:t>Answer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28560" y="2112840"/>
            <a:ext cx="7886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Random blood gluc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HbA1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Blood ke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Calibri"/>
              </a:rPr>
              <a:t>Venous blood g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69840" y="6451560"/>
            <a:ext cx="102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A8879-25B2-43CA-B733-BD325E6EA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4:18:09Z</dcterms:created>
  <dc:creator>Suriawati A.A.</dc:creator>
  <dc:description/>
  <dc:language>en-US</dc:language>
  <cp:lastModifiedBy>DrAmin</cp:lastModifiedBy>
  <dcterms:modified xsi:type="dcterms:W3CDTF">2016-12-29T03:00:47Z</dcterms:modified>
  <cp:revision>100</cp:revision>
  <dc:subject/>
  <dc:title>PowerPoint Presentation</dc:title>
</cp:coreProperties>
</file>